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F3866-642B-452F-AB26-4FB05883A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8EA2D-CD40-4F12-B678-2446B6DF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D9C58-A597-450C-A6CD-5FA951868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171FD-8AA4-4AF5-AFC4-DB8F7C73F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7D918-D33C-4912-8EFC-775526E2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37B9E-3E67-418E-87D6-7F6AEC17B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2E72-364D-4142-BE60-66C1EEA7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4672-8561-4A93-A9AA-44FCFD554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C521-5C96-45CA-9F49-D37292AA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4B72-3CCB-4ADF-9A0E-B579DCFB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C361-53AC-4319-884B-1D7C4944E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415A-618D-4F10-AD0D-CB2C79107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2B36-4566-4D3D-BEB2-D34D58E11E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hanasius of Alexandria</a:t>
            </a:r>
            <a:endParaRPr b="0" lang="en-US" sz="4400" spc="-1" strike="noStrike">
              <a:solidFill>
                <a:srgbClr val="000000"/>
              </a:solidFill>
              <a:latin typeface="Arial"/>
            </a:endParaRPr>
          </a:p>
        </p:txBody>
      </p:sp>
      <p:pic>
        <p:nvPicPr>
          <p:cNvPr id="42" name="Picture 5" descr="Ikone Athanasius von Alexandria.jpg"/>
          <p:cNvPicPr/>
          <p:nvPr/>
        </p:nvPicPr>
        <p:blipFill>
          <a:blip r:embed="rId1"/>
          <a:stretch/>
        </p:blipFill>
        <p:spPr>
          <a:xfrm>
            <a:off x="2666880" y="1066680"/>
            <a:ext cx="431496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 the Incarnation</a:t>
            </a:r>
            <a:endParaRPr b="0" lang="en-US" sz="4400" spc="-1" strike="noStrike">
              <a:solidFill>
                <a:srgbClr val="000000"/>
              </a:solidFill>
              <a:latin typeface="Arial"/>
            </a:endParaRPr>
          </a:p>
        </p:txBody>
      </p:sp>
      <p:sp>
        <p:nvSpPr>
          <p:cNvPr id="44"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ce death alone could stay the plague, took a mortal body which, united with Him, should avail for all, and by partaking of His immortality stay the corruption of the Race. By being above all, He made His Flesh an offering for our souls; by being one with us all, he clothed us with immort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 the Incarnation</a:t>
            </a:r>
            <a:endParaRPr b="0" lang="en-US" sz="4400" spc="-1" strike="noStrike">
              <a:solidFill>
                <a:srgbClr val="000000"/>
              </a:solidFill>
              <a:latin typeface="Arial"/>
            </a:endParaRPr>
          </a:p>
        </p:txBody>
      </p:sp>
      <p:sp>
        <p:nvSpPr>
          <p:cNvPr id="46"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this cause He was both born and appeared as Man, and died, and rose again, dulling and casting into the shade the works of all former men by His own, that in whatever direction the bias of men might be, from thence He might recall them, and teach them of His own true Father, as He Himself s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uke 19:10</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For the Son of Man has come to seek and to save that which was los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mans 16:17-18</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ow I urge you, brothers and sisters, to watch out for those who create dissensions and obstacles contrary to the teaching that you learned. Avoid them! For these are the kind who do not serve our Lord Christ, but their own appetites. By their smooth talk and flattery they deceive the minds of the na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26T20:51:55Z</dcterms:created>
  <dc:creator>Megan Thompson</dc:creator>
  <dc:description/>
  <dc:language>en-US</dc:language>
  <cp:lastModifiedBy>Southworth, Heidi J</cp:lastModifiedBy>
  <dcterms:modified xsi:type="dcterms:W3CDTF">2019-05-02T20:47:40Z</dcterms:modified>
  <cp:revision>2</cp:revision>
  <dc:subject/>
  <dc:title>Athenasius of Alexandria</dc:title>
</cp:coreProperties>
</file>