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26E-7F16-465B-88ED-3E57643D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B89-55BC-4CAB-9B1E-9D124C1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630-3B27-4CD8-8927-8CAD27CD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B852-74FA-4A8F-AC4F-CCA95D4A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A10F-D733-4771-AEBC-789A6A01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02E1-995D-4C1F-8028-5BED49C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DD4-FDD6-46E0-8E0F-5640AAF8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5365-AA84-4BB6-ABBB-76FEF2FA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60FF-711B-43AB-8FA9-7FBFCA8C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61B-7FAB-4D79-9944-B24B8C2A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B205-5BF2-498D-BDD3-A6D11907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0E3-1025-4D2E-90F1-E95652E8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C31-9B5F-4813-B0B1-8A75B25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67FF-C1F5-474B-B28C-6CEBAF3B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A9F-F81A-42B5-A9D0-826336D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DC9E-C4CB-4E9E-9057-3B1D3EFE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C8E4-13B4-4101-BFD6-DE8A8B30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BA4-2E62-4E69-86A4-4B4278D7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0A7-6D23-4508-8CEA-5280D2FF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F4E-9FD2-464D-A56B-CEAC158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407-771B-449B-8D88-07762CBE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29D-0779-4F21-8E9C-BF33A9D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D4B-CE13-46F3-9946-A6D3FBE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723-5F09-417F-A33A-FFD4D3F4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B96-F876-40E1-BC4F-9196042AD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9ED-3A9D-48AF-8D28-E7FB7BCC3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comic"/>
              </a:rPr>
              <a:t>HURRICANES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SURV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Hurricane Season:  June 1 – November 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Imprint MT Shadow"/>
              </a:rPr>
              <a:t>Hurricane Survival Checklis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efore the st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a personal evacuation pl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your insu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an inventory of your personal proper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ll storm shutters over the wind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 disaster supplies k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steps to protect your p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rricanes: Prepare to Surv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uring the St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inside and remain cal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safest place in your home away from wind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it for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l Cle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gnal from local emergency management officials before going outs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Imprint MT Shadow"/>
              </a:rPr>
              <a:t>Hurricane Survival Checklis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rricanes: Prepare to Surv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1218960"/>
            <a:ext cx="77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 the Stor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aware of hazards caused by the stor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only water you have stored or declared safe by public health official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n’t eat food opened or damaged by the stor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sten for announcements on where to apply for assistan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act your insurance company to report property dama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: Federal Emergency Management Ag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Imprint MT Shadow"/>
              </a:rPr>
              <a:t>Hurricane Survival Checklis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rricanes: Prepare to Surv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5:06:52Z</dcterms:created>
  <dc:creator>gdstaff</dc:creator>
  <dc:description/>
  <dc:language>en-US</dc:language>
  <cp:lastModifiedBy>clyned</cp:lastModifiedBy>
  <dcterms:modified xsi:type="dcterms:W3CDTF">2006-06-28T20:25:07Z</dcterms:modified>
  <cp:revision>11</cp:revision>
  <dc:subject/>
  <dc:title>HURRICANES</dc:title>
</cp:coreProperties>
</file>