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C04D-F3E9-4617-B668-73D181A12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D935-CF7E-4DDF-B8E5-053F9CB7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C3AC-F108-4FFD-B4BC-5726745EE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8B2F-7FF9-4E0B-80C8-150DB98B0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229F-E5BA-4598-9CC6-C45F2FA6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A33E-B89D-4992-BBBD-587FBBF5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B90E-0808-4114-A4A8-AAA0CA43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B103-2C85-4FBF-9B76-98ED7FD5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15F0-F744-4EBF-AFF5-DCCA09E0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7A29-BAAE-405B-ACC1-2038FB01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2588-5F69-462F-BC8F-93D904CE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A9AD-819A-43F0-A508-B79861A4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A486-10D7-4113-BBCA-33DFFF51E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cc"/>
                </a:solidFill>
                <a:latin typeface="comic"/>
              </a:rPr>
              <a:t>Hurricanes </a:t>
            </a:r>
            <a:br>
              <a:rPr sz="4800"/>
            </a:br>
            <a:r>
              <a:rPr b="1" i="1" lang="en-US" sz="4800" spc="-1" strike="noStrike">
                <a:solidFill>
                  <a:srgbClr val="0000cc"/>
                </a:solidFill>
                <a:latin typeface="comic"/>
              </a:rPr>
              <a:t>and </a:t>
            </a:r>
            <a:br>
              <a:rPr sz="4800"/>
            </a:br>
            <a:r>
              <a:rPr b="1" i="1" lang="en-US" sz="4800" spc="-1" strike="noStrike">
                <a:solidFill>
                  <a:srgbClr val="0000cc"/>
                </a:solidFill>
                <a:latin typeface="comic"/>
              </a:rPr>
              <a:t>Tropical Stor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57200" y="-304920"/>
            <a:ext cx="10134720" cy="7467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7200" y="1828800"/>
            <a:ext cx="82296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66"/>
                </a:solidFill>
                <a:latin typeface="comic"/>
              </a:rPr>
              <a:t>Hurricane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66"/>
                </a:solidFill>
                <a:latin typeface="comic"/>
              </a:rPr>
              <a:t>an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66"/>
                </a:solidFill>
                <a:latin typeface="comic"/>
              </a:rPr>
              <a:t>Tropical Stor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553080" y="609588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380880" y="-304920"/>
            <a:ext cx="10210680" cy="75438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071440" y="457200"/>
            <a:ext cx="317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comic"/>
              </a:rPr>
              <a:t>Category 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81080" y="2254320"/>
            <a:ext cx="61722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ressure: 920 - 944 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Wind Speeds: 131 - 155 m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torm Surge: 14 - 20 f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amage: Extre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91320" y="6172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Hurricanes and Tropical St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380880" y="-304920"/>
            <a:ext cx="10210680" cy="75438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071440" y="457200"/>
            <a:ext cx="317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comic"/>
              </a:rPr>
              <a:t>Category 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81080" y="2254320"/>
            <a:ext cx="61722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ressure: Less than 920 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Wind Speeds: 155 + m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torm Surge: 17 - 25 f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amage: Catastrophi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2680" y="5943600"/>
            <a:ext cx="831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s: U.S. Army Corps of Engineers, http://www.sas.usace.army.mil/em/emhurcatinfo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ional Weather Service, National Hurricane Center,  http://www.nhc.noaa.gov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91320" y="54864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Hurricanes and Tropical St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comic"/>
              </a:rPr>
              <a:t>Tropical  Storm  Categories            </a:t>
            </a:r>
            <a:r>
              <a:rPr b="1" lang="en-US" sz="3600" spc="-1" strike="noStrike">
                <a:solidFill>
                  <a:srgbClr val="003399"/>
                </a:solidFill>
                <a:latin typeface="Imprint MT Shadow"/>
                <a:ea typeface="Times New Roman"/>
              </a:rPr>
              <a:t>Tropical Depression</a:t>
            </a: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 </a:t>
            </a:r>
            <a:br>
              <a:rPr sz="3600"/>
            </a:br>
            <a:br>
              <a:rPr sz="2400"/>
            </a:br>
            <a:r>
              <a:rPr b="1" lang="en-US" sz="3600" spc="-1" strike="noStrike">
                <a:solidFill>
                  <a:srgbClr val="003399"/>
                </a:solidFill>
                <a:latin typeface="Imprint MT Shadow"/>
                <a:ea typeface="Times New Roman"/>
              </a:rPr>
              <a:t>Tropical Disturbance</a:t>
            </a: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 </a:t>
            </a:r>
            <a:br>
              <a:rPr sz="3600"/>
            </a:br>
            <a:br>
              <a:rPr sz="2400"/>
            </a:br>
            <a:r>
              <a:rPr b="1" lang="en-US" sz="3600" spc="-1" strike="noStrike">
                <a:solidFill>
                  <a:srgbClr val="003399"/>
                </a:solidFill>
                <a:latin typeface="Imprint MT Shadow"/>
                <a:ea typeface="Times New Roman"/>
              </a:rPr>
              <a:t>Tropical Sto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457200" y="0"/>
            <a:ext cx="10134720" cy="7391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53352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omic"/>
              </a:rPr>
              <a:t>Tropical  Storm  categ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743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2362320"/>
            <a:ext cx="8153640" cy="28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Imprint MT Shadow"/>
                <a:ea typeface="Times New Roman"/>
              </a:rPr>
              <a:t>Tropical Depression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Imprint MT Shadow"/>
                <a:ea typeface="Times New Roman"/>
              </a:rPr>
              <a:t>Tropical Disturbance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Imprint MT Shadow"/>
                <a:ea typeface="Times New Roman"/>
              </a:rPr>
              <a:t>Tropical Sto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91320" y="6172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Hurricanes and Tropical St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380880" y="-380880"/>
            <a:ext cx="10210680" cy="7543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2120" y="1523880"/>
            <a:ext cx="373356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 discrete tropical weather system of apparently organized conve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generally 200 to 600 km (100 to 300 mi) in dia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1523880"/>
            <a:ext cx="41148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riginating in the tropics or subtrop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aving a nonfrontal migratory charac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aintaining its identity for 24 hours or more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comic"/>
              </a:rPr>
              <a:t>Tropical  Disturb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6172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Hurricanes and Tropical St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380880" y="-304920"/>
            <a:ext cx="10210680" cy="7543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371600" y="1905120"/>
            <a:ext cx="4724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 tropical cyclone in which the maximum sustained wind speed is 38 mph or les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426708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epressions have a closed circu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comic"/>
              </a:rPr>
              <a:t>Tropical  De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6172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Hurricanes and Tropical St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380880" y="-304920"/>
            <a:ext cx="10210680" cy="7543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143000" y="1905120"/>
            <a:ext cx="708660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 tropical cyclone in which the maximum sustained surface wind speed ranges from 39 mph to 73 mp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 convection in tropical storms is usually more concentrated near the center with outer rainfall organizing into distinct band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comic"/>
              </a:rPr>
              <a:t>Tropical  St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6172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Hurricanes and Tropical St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380880" y="-304920"/>
            <a:ext cx="10210680" cy="7543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114560" y="2009880"/>
            <a:ext cx="71208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66"/>
                </a:solidFill>
                <a:uFillTx/>
                <a:latin typeface="Imprint MT Shadow"/>
              </a:rPr>
              <a:t>Hurricane categori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66"/>
                </a:solidFill>
                <a:uFillTx/>
                <a:latin typeface="comic"/>
                <a:ea typeface="Times New Roman"/>
              </a:rPr>
              <a:t>The Saffir / Simpson Scale</a:t>
            </a:r>
            <a:r>
              <a:rPr b="1" i="1" lang="en-US" sz="4400" spc="-1" strike="noStrike" u="sng">
                <a:solidFill>
                  <a:srgbClr val="000066"/>
                </a:solidFill>
                <a:uFillTx/>
                <a:latin typeface="comi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91320" y="6172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Hurricanes and Tropical St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380880" y="-304920"/>
            <a:ext cx="10210680" cy="7543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071440" y="457200"/>
            <a:ext cx="317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comic"/>
              </a:rPr>
              <a:t>Category 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81080" y="2254320"/>
            <a:ext cx="57913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ressure: 980 + 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Wind Speeds: 74 - 95 m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torm Surge: 5 – 8 f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amage: Mini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91320" y="6172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Hurricanes and Tropical St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-380880" y="-304920"/>
            <a:ext cx="10210680" cy="75438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071440" y="457200"/>
            <a:ext cx="317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comic"/>
              </a:rPr>
              <a:t>Category 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81080" y="2254320"/>
            <a:ext cx="57913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ressure: 965 - 979 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Wind Speeds: 96 - 110 m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torm Surge: 9 - 15 f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amage: Modera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6172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Hurricanes and Tropical St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pull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380880" y="-304920"/>
            <a:ext cx="10210680" cy="7543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071440" y="457200"/>
            <a:ext cx="317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comic"/>
              </a:rPr>
              <a:t>Category 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2254320"/>
            <a:ext cx="61722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ressure: 945 - 964 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Wind Speeds: 111 - 130 m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torm Surge: 12 - 17 f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amage: Extensi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91320" y="6172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Hurricanes and Tropical St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8T17:38:44Z</dcterms:created>
  <dc:creator>npugh</dc:creator>
  <dc:description/>
  <dc:language>en-US</dc:language>
  <cp:lastModifiedBy>nerem</cp:lastModifiedBy>
  <dcterms:modified xsi:type="dcterms:W3CDTF">2006-06-27T15:38:29Z</dcterms:modified>
  <cp:revision>17</cp:revision>
  <dc:subject/>
  <dc:title>Hurricanes  and  tropical storms</dc:title>
</cp:coreProperties>
</file>