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0CCF9-16DA-455E-89B4-E757143B6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F9EE2-D083-4E62-93E3-253D7170C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1151E-AD74-40ED-A6DF-DE8F62C11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228A3-3468-4B71-9FB7-7D4EE9AF0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FF01D-5E81-444E-B91D-C6DB409C2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E66ED-07D9-40CB-A413-64137CB1E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98FF8-F8C6-4954-8739-CF9086271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2F2FE-DF87-44C7-83F1-5B0BAF556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54138-045D-427E-9AD9-3691D9120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5C932-FACD-403B-8F14-CD3825DF6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6E848-15FB-4B3A-AE01-1057779C4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23F71-CCC1-421A-9B65-B3C00789B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6B5E3-24B2-466F-B925-94643CF59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91F4D-224C-4984-8001-940BADD8A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45759-CBB4-435F-B826-8B1BA1E85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2C323-C798-4E82-817E-DD22374F7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2B068-AE0B-4B08-B1AB-503440DE8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BF286-6743-4179-9A2E-971246478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022E0-AE31-4BFD-9A4C-E143470D6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B65F5-0A03-4F94-ACC8-431156CEF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A0FE5-802F-402E-BF34-0FB3BBE5A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18268-68C1-42DC-A259-7ED313945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C1FC0-08B6-4834-BB7D-CDD7AC87C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64D2E-FE09-46FA-B7FF-2E7B4197F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FBC99-DBB5-40EF-AC77-829CAF31F643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ACD37-BA61-4F08-A5DC-969DEEE4EDA0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s://www.youtube.com/watch?v=IKqXu-5jw60" TargetMode="Externa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s://www.youtube.com/watch?v=IKqXu-5jw60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33"/>
                </a:solidFill>
                <a:latin typeface="Garamond"/>
              </a:rPr>
              <a:t>Analyze the </a:t>
            </a:r>
            <a:r>
              <a:rPr b="0" lang="en-US" sz="6000" spc="-1" strike="noStrike">
                <a:solidFill>
                  <a:srgbClr val="ff0000"/>
                </a:solidFill>
                <a:latin typeface="Garamond"/>
              </a:rPr>
              <a:t>relationship between education and society</a:t>
            </a:r>
            <a:r>
              <a:rPr b="0" lang="en-US" sz="6000" spc="-1" strike="noStrike">
                <a:solidFill>
                  <a:srgbClr val="afbf39"/>
                </a:solidFill>
                <a:latin typeface="Garamond"/>
              </a:rPr>
              <a:t> in 20</a:t>
            </a:r>
            <a:r>
              <a:rPr b="0" lang="en-US" sz="6000" spc="-1" strike="noStrike" baseline="30000">
                <a:solidFill>
                  <a:srgbClr val="afbf39"/>
                </a:solidFill>
                <a:latin typeface="Garamond"/>
              </a:rPr>
              <a:t>th</a:t>
            </a:r>
            <a:r>
              <a:rPr b="0" lang="en-US" sz="6000" spc="-1" strike="noStrike">
                <a:solidFill>
                  <a:srgbClr val="afbf39"/>
                </a:solidFill>
                <a:latin typeface="Garamond"/>
              </a:rPr>
              <a:t> Century </a:t>
            </a:r>
            <a:r>
              <a:rPr b="0" lang="en-US" sz="6000" spc="-1" strike="noStrike">
                <a:solidFill>
                  <a:srgbClr val="cc9900"/>
                </a:solidFill>
                <a:latin typeface="Garamond"/>
              </a:rPr>
              <a:t>United States</a:t>
            </a:r>
            <a:r>
              <a:rPr b="0" lang="en-US" sz="6000" spc="-1" strike="noStrike">
                <a:solidFill>
                  <a:srgbClr val="006633"/>
                </a:solidFill>
                <a:latin typeface="Garamond"/>
              </a:rPr>
              <a:t>.</a:t>
            </a:r>
            <a:br>
              <a:rPr sz="6000"/>
            </a:br>
            <a:br>
              <a:rPr sz="6000"/>
            </a:br>
            <a:endParaRPr b="0" lang="en-US" sz="60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Step 3 Exampl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Organize brainstormed ideas into categories with at least three examples to support each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-Founding tradition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hours and bells (factory setup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ummer break (agrarian setup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-Safety concern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chool shooting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1950s “</a:t>
            </a:r>
            <a:r>
              <a:rPr b="0" lang="en-US" sz="2100" spc="-1" strike="noStrike" u="sng">
                <a:solidFill>
                  <a:srgbClr val="996600"/>
                </a:solidFill>
                <a:uFillTx/>
                <a:latin typeface="Arial"/>
                <a:hlinkClick r:id="rId1"/>
              </a:rPr>
              <a:t>Duck and Cover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-Prep for Professional Career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dress cod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ech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language rul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Step 4: Clearly Answer the Questio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KA Write a thesis statement tha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states all key aspects of the prompt (location, topic, time period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swers the prompt by previewing the categories in your body paragrap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afbf39"/>
                </a:solidFill>
                <a:latin typeface="Arial"/>
              </a:rPr>
              <a:t>Example: Education in 20</a:t>
            </a:r>
            <a:r>
              <a:rPr b="0" lang="en-US" sz="2600" spc="-1" strike="noStrike" baseline="30000">
                <a:solidFill>
                  <a:srgbClr val="afbf39"/>
                </a:solidFill>
                <a:latin typeface="Arial"/>
              </a:rPr>
              <a:t>th</a:t>
            </a:r>
            <a:r>
              <a:rPr b="0" lang="en-US" sz="2600" spc="-1" strike="noStrike">
                <a:solidFill>
                  <a:srgbClr val="afbf39"/>
                </a:solidFill>
                <a:latin typeface="Arial"/>
              </a:rPr>
              <a:t> century United States relates to society through founding traditions, safety concerns, and preparation for professional career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Step 5: Write Your Essay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first page of the packet will include directions that mimic the rubric the College Board uses to evaluate your essay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 have copied the directions exactly so that you will be used to their wording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Today’s DBQ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nects what you brainstormed today, what you learned about DBQs, and what you’ve been learning about the Modern Middle Eas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ing the documents provided and your knowledge of World History,* analyze the relationship between politics and education in North Africa and the Middle Eas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*They always start with this phras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Politics in the Modern Middle Eas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at political changes in the Modern Middle East can you predict might impact education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sternization (Turkey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oloniz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srael/Palesti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rab Spr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SI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ocial Justice movem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i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fugee Cri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What Defines your School Experience?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600" y="9144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pa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yped pap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nline quizzes (Schoology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roup wor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l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7:30-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 ha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ockdown, tornado, fire drills and drug dog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ate standards/standards-based grad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uilding relationships/sharing your trut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dividualized Education Pl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eacher Salar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ttenda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Education Reflects Society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Organize brainstormed ideas into categories with at least three examples to support each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-Founding tradition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hours and bells (factory setup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ummer break (agrarian setup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-Safety concern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weather,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chool shootings,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1950s “</a:t>
            </a:r>
            <a:r>
              <a:rPr b="0" lang="en-US" sz="2100" spc="-1" strike="noStrike" u="sng">
                <a:solidFill>
                  <a:srgbClr val="996600"/>
                </a:solidFill>
                <a:uFillTx/>
                <a:latin typeface="Arial"/>
                <a:hlinkClick r:id="rId1"/>
              </a:rPr>
              <a:t>Duck and Cover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-Prep for Professional Career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dress codes,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ech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language rul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Document-Based Questions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DBQ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839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ing a Document-Based Question is like what we did with our brainstorming activity, except you are given the brainstormed idea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You take those ideas and organize them in a way that answers the question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’s like being given puzzle pieces that you have to organize into a pictur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Step 1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promp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promp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promp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at is its topic? Its location? Its time period? If it’s not identified in the prompt, use the documents to help you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Analyze the </a:t>
            </a:r>
            <a:r>
              <a:rPr b="0" lang="en-US" sz="3800" spc="-1" strike="noStrike">
                <a:solidFill>
                  <a:srgbClr val="ff0000"/>
                </a:solidFill>
                <a:latin typeface="Garamond"/>
              </a:rPr>
              <a:t>relationship between education and society</a:t>
            </a:r>
            <a:r>
              <a:rPr b="0" lang="en-US" sz="3800" spc="-1" strike="noStrike">
                <a:solidFill>
                  <a:srgbClr val="afbf39"/>
                </a:solidFill>
                <a:latin typeface="Garamond"/>
              </a:rPr>
              <a:t> in 20</a:t>
            </a:r>
            <a:r>
              <a:rPr b="0" lang="en-US" sz="3800" spc="-1" strike="noStrike" baseline="30000">
                <a:solidFill>
                  <a:srgbClr val="afbf39"/>
                </a:solidFill>
                <a:latin typeface="Garamond"/>
              </a:rPr>
              <a:t>th</a:t>
            </a:r>
            <a:r>
              <a:rPr b="0" lang="en-US" sz="3800" spc="-1" strike="noStrike">
                <a:solidFill>
                  <a:srgbClr val="afbf39"/>
                </a:solidFill>
                <a:latin typeface="Garamond"/>
              </a:rPr>
              <a:t> Century </a:t>
            </a:r>
            <a:r>
              <a:rPr b="0" lang="en-US" sz="3800" spc="-1" strike="noStrike">
                <a:solidFill>
                  <a:srgbClr val="cc9900"/>
                </a:solidFill>
                <a:latin typeface="Garamond"/>
              </a:rPr>
              <a:t>United States</a:t>
            </a: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.</a:t>
            </a:r>
            <a:br>
              <a:rPr sz="3800"/>
            </a:br>
            <a:br>
              <a:rPr sz="3800"/>
            </a:br>
            <a:r>
              <a:rPr b="0" lang="en-US" sz="3800" spc="-1" strike="noStrike">
                <a:solidFill>
                  <a:srgbClr val="afbf39"/>
                </a:solidFill>
                <a:latin typeface="Garamond"/>
              </a:rPr>
              <a:t>Time: 20</a:t>
            </a:r>
            <a:r>
              <a:rPr b="0" lang="en-US" sz="3800" spc="-1" strike="noStrike" baseline="30000">
                <a:solidFill>
                  <a:srgbClr val="afbf39"/>
                </a:solidFill>
                <a:latin typeface="Garamond"/>
              </a:rPr>
              <a:t>th</a:t>
            </a:r>
            <a:r>
              <a:rPr b="0" lang="en-US" sz="3800" spc="-1" strike="noStrike">
                <a:solidFill>
                  <a:srgbClr val="afbf39"/>
                </a:solidFill>
                <a:latin typeface="Garamond"/>
              </a:rPr>
              <a:t> Century</a:t>
            </a:r>
            <a:br>
              <a:rPr sz="3800"/>
            </a:br>
            <a:r>
              <a:rPr b="0" lang="en-US" sz="3800" spc="-1" strike="noStrike">
                <a:solidFill>
                  <a:srgbClr val="cc9900"/>
                </a:solidFill>
                <a:latin typeface="Garamond"/>
              </a:rPr>
              <a:t>Place: United States</a:t>
            </a:r>
            <a:br>
              <a:rPr sz="3800"/>
            </a:br>
            <a:r>
              <a:rPr b="0" lang="en-US" sz="3800" spc="-1" strike="noStrike">
                <a:solidFill>
                  <a:srgbClr val="ff0000"/>
                </a:solidFill>
                <a:latin typeface="Garamond"/>
              </a:rPr>
              <a:t>Topic:</a:t>
            </a: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 </a:t>
            </a:r>
            <a:r>
              <a:rPr b="0" lang="en-US" sz="3800" spc="-1" strike="noStrike">
                <a:solidFill>
                  <a:srgbClr val="ff0000"/>
                </a:solidFill>
                <a:latin typeface="Garamond"/>
              </a:rPr>
              <a:t>relationship between education and society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Step 2: Read the Document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uggested time: 15 minutes for 7 do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nnotate to begin creating categories for your body paragraph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You’re not making value judgments, you’re using the documents to support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 clear answer to the prompt (step 4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Step 3: Brainstorm Organizatio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se the first page to identify categories and organize the documents underneath the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deally, 3 categori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eed to use 6/7 documents for the rubric, but it’s a good idea to use all 7 in case you misinterpret o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23T16:58:08Z</dcterms:created>
  <dc:creator>Megan Thompson</dc:creator>
  <dc:description/>
  <dc:language>en-US</dc:language>
  <cp:lastModifiedBy>Southworth, Heidi J</cp:lastModifiedBy>
  <dcterms:modified xsi:type="dcterms:W3CDTF">2019-05-02T21:00:34Z</dcterms:modified>
  <cp:revision>3</cp:revision>
  <dc:subject/>
  <dc:title>Education Reflects Society</dc:title>
</cp:coreProperties>
</file>